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34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9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36C-41A3-4283-B966-6CB9D41D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741-DEE4-4F29-B814-8ED2098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0C4-DB6A-4196-8E54-5D0C42DB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701-4693-42E8-A453-85A92083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9098-38CF-456D-8F42-61CFCE5F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984F-A050-40A4-8F5D-A1D6AC8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A4BC-AE65-4567-9316-C0C5090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5E3A-6E3D-4FC2-A4CE-8E547ABF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432F-E3D5-4776-AD85-5C1D269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4B85-7AB0-4D49-A71A-A58F190E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1B6F-F8BF-4143-B0EC-6AF4AC8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E0D-DF67-4E74-8B0A-DA11DC0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AA51-A66E-4DCE-819A-ACB698F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3BA8-5D47-4405-B69C-D399EED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423F-8894-43BD-B81B-E033B39E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3BE-2B2C-4FAF-BA32-52E3F8A9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7E9-2FBA-43F9-A388-80D17319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905-F357-4912-B802-0D4D962A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D20-645C-4C85-B1DB-F9213005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FA2-9F10-46C2-A4F1-95B72C66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7B7-100E-4572-BDC7-97B1C424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F79-244D-4DD2-B4F0-62C3723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FD4-7B60-4C27-94EA-5887BE3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B6A-F49F-43B3-8EE0-3C8F56C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8354-9D54-4DED-833A-B5E71236E0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A20B-E415-41DB-891A-FF40DA288F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One%20Dark%20Night.htm" TargetMode="External"/><Relationship Id="rId2" Type="http://schemas.openxmlformats.org/officeDocument/2006/relationships/hyperlink" Target="http://www.scottsboro.org/~flewis/SF%20Reading%20Street/spellmaster/One%20Dark%20Night/jigword2.html" TargetMode="External"/><Relationship Id="rId3" Type="http://schemas.openxmlformats.org/officeDocument/2006/relationships/hyperlink" Target="http://www.scottsboro.org/~flewis/SF%20Reading%20Street/spellmaster/One%20Dark%20Night/matchword2.html" TargetMode="External"/><Relationship Id="rId4" Type="http://schemas.openxmlformats.org/officeDocument/2006/relationships/hyperlink" Target="http://www.scottsboro.org/~flewis/SF%20Reading%20Street/spellmaster/One%20Dark%20Night/speedword2.html" TargetMode="External"/><Relationship Id="rId5" Type="http://schemas.openxmlformats.org/officeDocument/2006/relationships/hyperlink" Target="http://www.scottsboro.org/~flewis/SF%20Reading%20Street/spellmaster/One%20Dark%20Night/wordsearch2.html" TargetMode="External"/><Relationship Id="rId6" Type="http://schemas.openxmlformats.org/officeDocument/2006/relationships/hyperlink" Target="http://www.scottsboro.org/~flewis/SF%20Reading%20Street/spellmaster/One%20Dark%20Night/wordweb.html" TargetMode="External"/><Relationship Id="rId7" Type="http://schemas.openxmlformats.org/officeDocument/2006/relationships/hyperlink" Target="http://www.spellingcity.com/index.php?option=com_spellcity&amp;task=viewList&amp;listId=825620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One%20Dark%20Night%20Spelling%20Words/speedword2.html" TargetMode="External"/><Relationship Id="rId10" Type="http://schemas.openxmlformats.org/officeDocument/2006/relationships/hyperlink" Target="http://www.scottsboro.org/~flewis/SF%20Reading%20Street/spellmaster/One%20Dark%20Night%20Spelling%20Words/wordweb.html" TargetMode="External"/><Relationship Id="rId11" Type="http://schemas.openxmlformats.org/officeDocument/2006/relationships/hyperlink" Target="http://www.quia.com/jg/1136615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25" TargetMode="External"/><Relationship Id="rId14" Type="http://schemas.openxmlformats.org/officeDocument/2006/relationships/hyperlink" Target="http://www.spellingcity.com/index.php?option=com_spellcity&amp;task=viewList&amp;listId=825625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hyperlink" Target="http://images.google.com/imgres?imgurl=http://www.kristianstad.se/upload/Sprak/bilder/pellets%25202.jpg&amp;imgrefurl=http://www.kristianstad.se/sv/Kristianstads-kommun/Sprak/English/Environment/Pellets/&amp;usg=__OoVy_y-HFUreKH4tD-mE0lI0Obs=&amp;h=472&amp;w=472&amp;sz=57&amp;hl=en&amp;start=3&amp;tbnid=imq9FZO6WJX9UM:&amp;tbnh=129&amp;tbnw=129&amp;prev=/images?q=pellets&amp;hl=en&amp;rlz=1T4GGLR_enUS263US266&amp;sa=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thebaitwarehouse.co.uk/images/10MM%2520COURSE%2520CARP%2520PELLET.jpg&amp;imgrefurl=http://www.thebaitwarehouse.co.uk/index.php?cPath=21&amp;usg=__79N6ibZUtFpVjxWMbwas8uSsyu8=&amp;h=640&amp;w=427&amp;sz=87&amp;hl=en&amp;start=7&amp;tbnid=uAUP91-2yu4jqM:&amp;tbnh=137&amp;tbnw=91&amp;prev=/images?q=pellets&amp;hl=en&amp;rlz=1T4GGLR_enUS263US266&amp;sa=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statoilhydro.com/en/NewsAndMedia/News/2008/Downloads/pellets-0002558-hires.jpg&amp;imgrefurl=http://www.statoilhydro.com/en/NewsAndMedia/News/2008/Pages/selger_pellets.aspx&amp;usg=__ZlAIWBhS-_Sc9v_stbwo0x8Or9E=&amp;h=5000&amp;w=3299&amp;sz=986&amp;hl=en&amp;start=60&amp;tbnid=xU0349cZ1gHytM:&amp;tbnh=150&amp;tbnw=99&amp;prev=/images?q=pellets&amp;start=40&amp;ndsp=20&amp;hl=en&amp;rlz=1T4GGLR_enUS263US266&amp;sa=N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hyperlink" Target="http://images.google.com/imgres?imgurl=http://img.dailymail.co.uk/i/pix/2007/04_03/litter0205_468x550.jpg&amp;imgrefurl=http://www.dailymail.co.uk/news/article-452205/Bill-Brysons-war-heartbreaking-litter-blighting-Britain.html&amp;usg=__U9axfNPv1FdNX0GNuH408Jp_Qhs=&amp;h=550&amp;w=468&amp;sz=134&amp;hl=en&amp;start=1&amp;tbnid=7S-3wK8BXwKr7M:&amp;tbnh=133&amp;tbnw=113&amp;prev=/images?q=litter&amp;hl=en&amp;rlz=1T4GGLR_enUS263US266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nkleycenter.com/photos/litter/images/litter%2520(9).jpg&amp;imgrefurl=http://www.hinkleycenter.com/photos/litter.htm&amp;usg=__avVlACexYzM0M-49C1DMVwBMgMA=&amp;h=375&amp;w=500&amp;sz=93&amp;hl=en&amp;start=7&amp;tbnid=_uC8ZcMDmLEYNM:&amp;tbnh=98&amp;tbnw=130&amp;prev=/images?q=litter&amp;hl=en&amp;rlz=1T4GGLR_enUS263US266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google.com/imgres?imgurl=http://ouryarra.melbournewater.com.au/images/litter_trap.jpg&amp;imgrefurl=http://ouryarra.melbournewater.com.au/content/river_health/what_affects_river_health/what_affects_river_health.asp&amp;usg=__-BFq2p2oeIBrtaKqx9vgJCCXWwA=&amp;h=287&amp;w=290&amp;sz=24&amp;hl=en&amp;start=25&amp;tbnid=aoy3Qdjto1CncM:&amp;tbnh=114&amp;tbnw=115&amp;prev=/images?q=litter&amp;start=20&amp;ndsp=20&amp;hl=en&amp;rlz=1T4GGLR_enUS263US266&amp;sa=N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images.google.com/imgres?imgurl=http://www.portsdown.org/images/gallery/g_alpha/litter.jpg&amp;imgrefurl=http://www.portsdown.org/ref/a_tasks.htm&amp;usg=__eIxquB3wTdtoSIfP4xP_61klpNI=&amp;h=480&amp;w=640&amp;sz=61&amp;hl=en&amp;start=34&amp;tbnid=BQ19Gb3srTFpyM:&amp;tbnh=103&amp;tbnw=137&amp;prev=/images?q=litter&amp;start=20&amp;ndsp=20&amp;hl=en&amp;rlz=1T4GGLR_enUS263US266&amp;sa=N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om/imgres?imgurl=http://newsimg.bbc.co.uk/media/images/42879000/jpg/_42879401_collected_litter.jpg&amp;imgrefurl=http://news.bbc.co.uk/2/hi/in_pictures/6619625.stm&amp;usg=__Jub6R6IW8uecvo-NUQbmm04uNpE=&amp;h=300&amp;w=416&amp;sz=74&amp;hl=en&amp;start=56&amp;tbnid=hHzGMOWAMqCUbM:&amp;tbnh=90&amp;tbnw=125&amp;prev=/images?q=litter&amp;start=40&amp;ndsp=20&amp;hl=en&amp;rlz=1T4GGLR_enUS263US266&amp;sa=N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images.google.com/imgres?imgurl=http://www.sunshineshilohs.com/puppies/1st%2520litter/images/litter.jpg&amp;imgrefurl=http://www.sunshineshilohs.com/puppies/1st%2520litter/1st%2520litter.htm&amp;usg=__wmeh0UwYA5RbyC8G6f9JxTyEMgc=&amp;h=394&amp;w=500&amp;sz=35&amp;hl=en&amp;start=78&amp;tbnid=ClqXyHOwbU6CbM:&amp;tbnh=102&amp;tbnw=130&amp;prev=/images?q=litter&amp;start=60&amp;ndsp=20&amp;hl=en&amp;rlz=1T4GGLR_enUS263US266&amp;sa=N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" Target="slide87.xml"/><Relationship Id="rId3" Type="http://schemas.openxmlformats.org/officeDocument/2006/relationships/slide" Target="slide89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www.john-daly.com/pics/storm1.jpg&amp;imgrefurl=http://www.john-daly.com/picsl/sc.htm&amp;usg=__loZ7oWnfxX1qbl14SEibBdkkC6c=&amp;h=600&amp;w=900&amp;sz=118&amp;hl=EN&amp;start=18&amp;tbnid=ycfG_IXhOcSyHM:&amp;tbnh=97&amp;tbnw=146&amp;prev=/images?q=storm&amp;gbv=2&amp;hl=EN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google.com/imgres?imgurl=http://climatesecurity.org/blog/wp-content/uploads/2008/04/storm350x425.jpg&amp;imgrefurl=http://blog.climatesecurity.org/?p=75&amp;usg=__QEuZMa1d24sPoxOTYzk42dzw0p4=&amp;h=425&amp;w=350&amp;sz=26&amp;hl=EN&amp;start=24&amp;tbnid=K-uoX49VidqEOM:&amp;tbnh=126&amp;tbnw=104&amp;prev=/images?q=storm&amp;start=18&amp;gbv=2&amp;ndsp=18&amp;hl=EN&amp;sa=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m/imgres?imgurl=http://img.timeinc.net/time/photoessays/2007/ice_storm/ice_storm_01.jpg&amp;imgrefurl=http://www.time.com/time/photogallery/0,29307,1693458,00.html&amp;usg=__XJ3ujFGY93ktMm9Zy7JAcrk79gw=&amp;h=404&amp;w=611&amp;sz=143&amp;hl=EN&amp;start=36&amp;tbnid=UHAZz16xLJw6kM:&amp;tbnh=90&amp;tbnw=136&amp;prev=/images?q=storm&amp;start=18&amp;gbv=2&amp;ndsp=18&amp;hl=EN&amp;sa=N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images.google.com/imgres?imgurl=http://nyc.metblogs.com/archives/images/2006/02/02.06%2520snowstorm_third%2520ave%2520umbrella.JPG&amp;imgrefurl=http://skywatch-media.com/2007/03/uk-braced-for-arctic-snowstorms.html&amp;usg=__09L53lRxXbPnOLduZQt0mQO1tHM=&amp;h=972&amp;w=1296&amp;sz=212&amp;hl=EN&amp;start=2&amp;tbnid=B7P2B6ZfT34ZlM:&amp;tbnh=113&amp;tbnw=150&amp;prev=/images?q=snowstorm&amp;gbv=2&amp;hl=EN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images.google.com/imgres?imgurl=http://www.shadesofsuccess.net/arturo_d_kerr/images/2008/01/18/snowstorm0108jv.jpg&amp;imgrefurl=http://www.shadesofsuccess.net/arturo_d_kerr/2008/01/bostons-snowsto.html&amp;usg=__On_c-zb9BzFKRcG1wG_t8fR4FQY=&amp;h=480&amp;w=640&amp;sz=106&amp;hl=EN&amp;start=28&amp;tbnid=7h2iKG-EOuEYUM:&amp;tbnh=103&amp;tbnw=137&amp;prev=/images?q=snowstorm&amp;start=18&amp;gbv=2&amp;ndsp=18&amp;hl=EN&amp;sa=N" TargetMode="External"/><Relationship Id="rId11" Type="http://schemas.openxmlformats.org/officeDocument/2006/relationships/image" Target="../media/image19.jpeg"/><Relationship Id="rId12" Type="http://schemas.openxmlformats.org/officeDocument/2006/relationships/hyperlink" Target="http://images.google.com/imgres?imgurl=http://www.thetechherald.com/media/images/200849/storm_Fabiano_1.jpg&amp;imgrefurl=http://www.thetechherald.com/article.php/200849/2534/BlackBerry-Storm-receives-celebrity-criticism&amp;usg=__7wSMiloV4lvAGZeyZzgg_4cR3Rg=&amp;h=400&amp;w=600&amp;sz=20&amp;hl=EN&amp;start=148&amp;tbnid=TyCv8qIjRY0GfM:&amp;tbnh=90&amp;tbnw=135&amp;prev=/images?q=storm&amp;start=144&amp;gbv=2&amp;ndsp=18&amp;hl=EN&amp;sa=N" TargetMode="External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hyperlink" Target="http://images.google.com/imgres?imgurl=http://mcgonnigle.files.wordpress.com/2007/02/lightning.jpg&amp;imgrefurl=http://mcgonnigle.wordpress.com/2007/02/05/of-400-lightning-strikes-a-year/&amp;usg=__u5PBmtGeRLDLgNjnbjgrLCUp8gE=&amp;h=600&amp;w=800&amp;sz=69&amp;hl=EN&amp;start=3&amp;tbnid=Z7FUmpMkVF71UM:&amp;tbnh=107&amp;tbnw=143&amp;prev=/images?q=lightning&amp;gbv=2&amp;hl=EN&amp;sa=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ages.google.com/imgres?imgurl=http://static.howstuffworks.com/gif/lightning-gallery-18.jpg&amp;imgrefurl=http://science.howstuffworks.com/lightning9.htm&amp;usg=__-aE_1sFZTG5iBDUMOoQmlwYAmuY=&amp;h=320&amp;w=400&amp;sz=14&amp;hl=EN&amp;start=2&amp;tbnid=t_NmS3Ch2Yp5kM:&amp;tbnh=99&amp;tbnw=124&amp;prev=/images?q=lightning&amp;gbv=2&amp;hl=EN&amp;sa=G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lifeclever.com/wp-content/uploads/2008/01/lightning.jpg&amp;imgrefurl=http://www.lifeclever.com/the-lightning-bolt/&amp;usg=__ay4a9wcREMe4BlQDkZnHCNQ2Wls=&amp;h=314&amp;w=450&amp;sz=35&amp;hl=EN&amp;start=5&amp;tbnid=6BxWXN8nh8fnoM:&amp;tbnh=89&amp;tbnw=127&amp;prev=/images?q=lightning&amp;gbv=2&amp;hl=EN&amp;sa=G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ma.utexas.edu/users/kschalm/Lightning%2520&amp;%2520Tornado.jpg&amp;imgrefurl=http://tkcollier.wordpress.com/2008/03/&amp;usg=__TyPmK3KUg8H1cwnwr1gr-fNA-Eg=&amp;h=600&amp;w=800&amp;sz=25&amp;hl=EN&amp;start=8&amp;tbnid=P84Yhd2JjuJ1IM:&amp;tbnh=107&amp;tbnw=143&amp;prev=/images?q=lightning&amp;gbv=2&amp;hl=EN&amp;sa=G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images.google.com/imgres?imgurl=http://akvis.com/img/examples/lightshop/lightning/rain-and-lightning.jpg&amp;imgrefurl=http://akvis.com/de/lightshop-tutorial/examples/lightning.php&amp;usg=__foPi0s_cJtf9jLVgRHXu78ZFShU=&amp;h=420&amp;w=560&amp;sz=64&amp;hl=EN&amp;start=7&amp;tbnid=71-LhOX6NvO20M:&amp;tbnh=100&amp;tbnw=133&amp;prev=/images?q=lightning&amp;gbv=2&amp;hl=EN&amp;sa=G" TargetMode="External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6.xml"/><Relationship Id="rId3" Type="http://schemas.openxmlformats.org/officeDocument/2006/relationships/slide" Target="slide98.xml"/><Relationship Id="rId4" Type="http://schemas.openxmlformats.org/officeDocument/2006/relationships/slide" Target="slide139.xml"/><Relationship Id="rId5" Type="http://schemas.openxmlformats.org/officeDocument/2006/relationships/slide" Target="slide163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003b76"/>
                </a:solidFill>
                <a:latin typeface="Arial"/>
              </a:rPr>
              <a:t>Click to listen to the story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6" descr="One Dark N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35200" y="2019240"/>
            <a:ext cx="454032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animals live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 - lut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someone damages the air, soil, or water by making it dirty with harmful substances, we say the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Oil spills from ships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wa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moke from the factory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ollu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air around u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ollu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7" descr="Water-pollution"/>
          <p:cNvPicPr/>
          <p:nvPr/>
        </p:nvPicPr>
        <p:blipFill>
          <a:blip r:embed="rId1"/>
          <a:stretch/>
        </p:blipFill>
        <p:spPr>
          <a:xfrm>
            <a:off x="6616800" y="160020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coalplant"/>
          <p:cNvPicPr/>
          <p:nvPr/>
        </p:nvPicPr>
        <p:blipFill>
          <a:blip r:embed="rId2"/>
          <a:stretch/>
        </p:blipFill>
        <p:spPr>
          <a:xfrm>
            <a:off x="457200" y="1600200"/>
            <a:ext cx="2098800" cy="2819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Lawyermarketingpollution"/>
          <p:cNvPicPr/>
          <p:nvPr/>
        </p:nvPicPr>
        <p:blipFill>
          <a:blip r:embed="rId3"/>
          <a:stretch/>
        </p:blipFill>
        <p:spPr>
          <a:xfrm>
            <a:off x="2743200" y="1600200"/>
            <a:ext cx="3657600" cy="2409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pollute"/>
          <p:cNvPicPr/>
          <p:nvPr/>
        </p:nvPicPr>
        <p:blipFill>
          <a:blip r:embed="rId4"/>
          <a:stretch/>
        </p:blipFill>
        <p:spPr>
          <a:xfrm>
            <a:off x="457200" y="452448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creek%2520grate"/>
          <p:cNvPicPr/>
          <p:nvPr/>
        </p:nvPicPr>
        <p:blipFill>
          <a:blip r:embed="rId5"/>
          <a:stretch/>
        </p:blipFill>
        <p:spPr>
          <a:xfrm>
            <a:off x="2971800" y="4114800"/>
            <a:ext cx="1557360" cy="2000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7" descr="wsci_01_img0096"/>
          <p:cNvPicPr/>
          <p:nvPr/>
        </p:nvPicPr>
        <p:blipFill>
          <a:blip r:embed="rId6"/>
          <a:stretch/>
        </p:blipFill>
        <p:spPr>
          <a:xfrm>
            <a:off x="4800600" y="4191120"/>
            <a:ext cx="1562040" cy="1952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9" descr="deadfish"/>
          <p:cNvPicPr/>
          <p:nvPr/>
        </p:nvPicPr>
        <p:blipFill>
          <a:blip r:embed="rId7"/>
          <a:stretch/>
        </p:blipFill>
        <p:spPr>
          <a:xfrm>
            <a:off x="6781680" y="4745160"/>
            <a:ext cx="1924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 - lease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set it free or let it g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the young racco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 foot is healed, the vet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t into the w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will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relea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baby birds as soon as they can f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Hospit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are word parts that are at the end of some words.  Look at these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er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ese words because you know how to read words with suf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over the suffix, read the base word, and then blend the base word and the suffix to read the whole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suffixes have a specific mea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ly     in a ____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ful    full of _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er, -or      a person who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020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li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with our family. Other animals are wild.  We should be kind to all animals.  Why should we take care of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gular and Plural Pronou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f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–ly, -ful, -er, -or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nderful, graceful, helper, quickly, editor, sailor, stupidly, helpful, closely, dancer, reader, visit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2057400"/>
          <a:ext cx="8458200" cy="29052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fu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o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ck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pi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c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c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d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i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i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_____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______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____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re is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we have to bring our toys in from the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faucet into the si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edroom ligh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 flip the switch on and off and on and of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ark sky was lit up by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____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overed my ears when I heard the lou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ammer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nail to push it into the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ves kept sweeping over the bea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One Dark N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bout a cat and he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help you understand what you read, you can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classif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or group, related words and phra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is story, the author uses words and phrases to describe the cat and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grouping these words together, you can picture what the cat and kittens look lik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words and phrases that describe the cat or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, dark, stray, soft as whispers, gray as da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further classify these words by grouping them into words about the cat and words about the kitt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jamal herd a cat out sid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Jamal heard a cat outside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he unlocked the dor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He unlocked the door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two poems about people who decide to give some cats a ho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240" y="4107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6765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ime that you experienced bad or scary wea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unloved cats who find a home. They are reassured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 – cer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have a reason to worry about something, you hav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i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omething can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you by giving you an uneasy fee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om h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concer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bout us crossing the street at the busy interse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62120" y="2133720"/>
          <a:ext cx="7162560" cy="418788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two poems about some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lov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ts who find a home. They are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assur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hat someone loves them. How can we show an animal that we love i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ing and Listening: Use Telephones and Voice M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nging Back Salm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disagree—this certainly does not look like a full mo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</a:t>
            </a:r>
            <a:r>
              <a:rPr b="0" lang="ja-JP" sz="36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 going to want to reread this great new book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e was either the first or second blue ribbon winner at the preschoo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s it unfair to say this is the worst juice I have ever had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ill you replay the tape of the cook in the funny suit that made me laugh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food is great but do not reheat any more because I am ful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om get a new bed for hour ca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Mom got a new bed for our ca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ole one was unsaif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old one was unsafe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 – th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the process of something getting bigger or develo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brother had 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spurt of two inches last year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d like to see mo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ur vegetable pl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ake the place of more than one nou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I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they in a nest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he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nouns for One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re Than 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nd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ent for a wal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de a peeping s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ny asked,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n the box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ooked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baby birds insid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are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a nest?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pea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 and clear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complete, accurate inform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pol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on the topic. 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ram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 – tec - 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eep something from being harmed or damaged, you give i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basement gives u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ornad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citizens get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rotec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from the pol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Telephones and Voice Ma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Listen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careful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e down the mess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 th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Connections:  Text to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poems about cats who find a new home.  Tomorrow we will hear again about what happens during the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9672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752480" y="274320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puppy with a growth spurt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838080" y="2057400"/>
          <a:ext cx="7010640" cy="418788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showing concern for animals. We can do many things to look after them. Why is it important to care for animal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 Gra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sten for Amazing Word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Picture 8" descr="Love, Love Animals"/>
          <p:cNvPicPr/>
          <p:nvPr/>
        </p:nvPicPr>
        <p:blipFill>
          <a:blip r:embed="rId1"/>
          <a:srcRect l="1642" t="1169" r="1642" b="8985"/>
          <a:stretch/>
        </p:blipFill>
        <p:spPr>
          <a:xfrm>
            <a:off x="3809880" y="304920"/>
            <a:ext cx="4800600" cy="6265800"/>
          </a:xfrm>
          <a:prstGeom prst="rect">
            <a:avLst/>
          </a:prstGeom>
          <a:ln w="0">
            <a:noFill/>
          </a:ln>
        </p:spPr>
      </p:pic>
      <p:pic>
        <p:nvPicPr>
          <p:cNvPr id="192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3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4" name="HTMLHidden2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5" name="HTMLHidden3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6" name="HTMLHidden4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197" name="HTMLHidden5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azing Words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cern, growth, protection, fragile, pellets, pollute, release, lit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514600" y="1676520"/>
          <a:ext cx="4800600" cy="358272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w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we should care for anim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replay the preview so I can see how the actors re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unpaid ticket the he disagrees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prepay our movers when we reloc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undo this ribbon so you can retie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 un-, re-, pre-, dis-</a:t>
            </a:r>
            <a:br>
              <a:rPr sz="4000"/>
            </a:b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Find the words with prefixes and base word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vie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I can see how the actors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has 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p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cket the h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isagre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says her job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p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ur movers when w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oc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il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nd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is ribbon so you can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t for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wonder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tudied words like this alrea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you know about reading the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l learn about adding prefixes </a:t>
            </a: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un-, re-, pre-, 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the beginning of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____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how rain falls during a storm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ometimes see this in the sky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you can hear a clap of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it rains h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lightning moves quickly across the sky it does this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___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omeone does when he or she bangs on a door with a fist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father had 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augh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much more than a light rain.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prefix has a specific mean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un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dis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n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a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e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  bef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cat disappaered in the gra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cat disappeared in the grass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y was afraid of dog.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It was afraid of the dog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 Grap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Bar graph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p readers compare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read the title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information at the bottom and sides of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low the bar across and see where it ends to find out the information you are looking f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rap Up Your Week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thunderstor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ind Pets New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8720" y="2268360"/>
            <a:ext cx="67705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two-syllable word formed from the base word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the prefix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chunk the word into its parts—the prefix and the bas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cover the prefix, read the base word, and then blend the prefix and the base word to read the whole w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resta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7180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r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ll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pp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812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afra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ch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f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oy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m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mo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8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16400" y="1599840"/>
            <a:ext cx="347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nmade, reread, disorder, dislike, preheat, recook, reload, disown, unclean, untie, prepress, prepri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52320" y="1523880"/>
            <a:ext cx="3124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o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h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li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a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ch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wri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0" y="1523880"/>
          <a:ext cx="4140360" cy="487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48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w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l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Firefig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l, in order, three things that happened in that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ld the last thing have happened first?  Why n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equence &amp; Graphic Organiz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pay attention to the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there are helpful clue words, such as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nex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inal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the sequence.  Sometimes there are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keep track of sequence by using a graphic organizer to record events as we read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helps us remember the correct order of events in a sto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ille un lock the doo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lock the door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 well unpack her groceries?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She will unpack her groceries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ord that takes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om helps animals.  She works for a v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is a pronoun that names one person—Mo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pronouns that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ometimes Dad and I help.  We feed the anim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is a pronoun that names more than one—Dad and 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____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____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374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914400"/>
          <a:ext cx="4647960" cy="569916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7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ght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a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l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d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___said,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ve to Dr. Klut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ve to Dr. Klut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ular and Plur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and Mom were driving home last night.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w a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as sitting by the side of the 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d pulled over.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ot a blanket out of the trun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rapped the blanket around the c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anted to help the cat.         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id,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ve to Dr. Klut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ok the cat to the v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lling Words with Prefi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boy and his grandfather help some stray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2666880"/>
          <a:ext cx="6095880" cy="3260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63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oncern you ha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concern for a family of cats. They need protection from a storm.  What do animals need for growth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66680" y="2209680"/>
          <a:ext cx="6858000" cy="40910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0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Jonathan.  He shows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concer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or a family of cats. They need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otectio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rom a storm.  What do animals need for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growt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d well-be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-, re,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68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Verdana"/>
              <a:ea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8120" y="1219320"/>
          <a:ext cx="3352680" cy="51814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rtain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i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</a:t>
                      </a: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 - gi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something can break or be damaged easily, it i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delicate wings of a butterfly ar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knock over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vase, it will bre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 spider web look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fragi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but it is quite stro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 - le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e small balls of material pressed together, very often a kind of animal f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ony poured the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to the rabbi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 bow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dog likes dog food made from beef-flavored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pell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     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pel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7" descr="pellets%25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10MM%2520COURSE%2520CARP%2520PELLE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1828800"/>
            <a:ext cx="1923840" cy="2895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pellets-0002558-hir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1600200"/>
            <a:ext cx="236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ea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 - 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s scraps or pieces of trash left arou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was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the stands after the football g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e picked up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  <a:ea typeface="Arial"/>
              </a:rPr>
              <a:t>lit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around our school y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t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6" descr="litter0205_468x5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1600200"/>
            <a:ext cx="194292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litter%2520(9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60020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litter_tra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1600200"/>
            <a:ext cx="2619360" cy="2595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litt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427212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_42879401_collected_litte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267080"/>
            <a:ext cx="2486160" cy="1791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litt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4284720"/>
            <a:ext cx="23814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Hospit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prefix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prefix and base word for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pl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1752480"/>
            <a:ext cx="2971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wr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clas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ap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2900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isturb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g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h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r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8" descr="Phonics Songs and Rhymes Chart 22"/>
          <p:cNvPicPr/>
          <p:nvPr/>
        </p:nvPicPr>
        <p:blipFill>
          <a:blip r:embed="rId1"/>
          <a:stretch/>
        </p:blipFill>
        <p:spPr>
          <a:xfrm>
            <a:off x="4114800" y="152280"/>
            <a:ext cx="4614840" cy="65404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971800" cy="452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sten for words with prefix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1066680"/>
          <a:ext cx="5867640" cy="5334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afe         unplu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        regro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un           prescho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ppear     disag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ock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prehistor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ie   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re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wind          </a:t>
                      </a:r>
                      <a:r>
                        <a:rPr b="0" lang="en-US" sz="32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unfortun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Pick out the words with these prefixes in </a:t>
            </a:r>
            <a:r>
              <a:rPr b="1" i="1" lang="ja-JP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Kitten Rescue.</a:t>
            </a:r>
            <a:r>
              <a:rPr b="1" i="1" lang="ja-JP" sz="2400" spc="-1" strike="noStrike">
                <a:solidFill>
                  <a:srgbClr val="ffcc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2327040"/>
            <a:ext cx="3733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happ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plea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fill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8120" y="1219320"/>
          <a:ext cx="3352680" cy="46479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e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br>
              <a:rPr sz="40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think, disagree, displace, preheat, unhappy, unfold, repaint, preview, prepaid, displease, react, unsee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2057400"/>
          <a:ext cx="8229600" cy="2905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ha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f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s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h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a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h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pl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you rewind the rerun of that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you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rewi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reru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that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disappear before it is time to unp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sappe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efore it is time to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pac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ixes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un-, re-, pre-, dis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eschool children learn to retie their la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eschoo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ren learn to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re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ir la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unsafe to preheat the oven while you are gon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saf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ehe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oven while you are g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rains heav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flash of light in the sky during a 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loud sound in the sky that comes after a flash of 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stor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eavy rain, snow, or h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 – moves quickly 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9" descr="storm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1600200"/>
            <a:ext cx="2762280" cy="213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storm350x4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600200"/>
            <a:ext cx="2074680" cy="2514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ice_storm_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89520"/>
            <a:ext cx="3200400" cy="2117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7" descr="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3886200"/>
            <a:ext cx="2438280" cy="2293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9" descr="snowstorm0108jv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4343400"/>
            <a:ext cx="2295720" cy="1725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1" descr="storm_Fabiano_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" y="160020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light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7" descr="lightn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lightning-gallery-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600200"/>
            <a:ext cx="2628720" cy="209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lightn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970440"/>
            <a:ext cx="3048120" cy="2135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Lightning%2520%26%2520Tornad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5000" y="3908520"/>
            <a:ext cx="2962440" cy="2216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rain-and-lightni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5320" y="160020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purple%2520lightning"/>
          <p:cNvPicPr/>
          <p:nvPr/>
        </p:nvPicPr>
        <p:blipFill>
          <a:blip r:embed="rId12"/>
          <a:stretch/>
        </p:blipFill>
        <p:spPr>
          <a:xfrm>
            <a:off x="3657600" y="4800600"/>
            <a:ext cx="1828800" cy="1289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lightning"/>
          <p:cNvPicPr/>
          <p:nvPr/>
        </p:nvPicPr>
        <p:blipFill>
          <a:blip r:embed="rId13"/>
          <a:stretch/>
        </p:blipFill>
        <p:spPr>
          <a:xfrm>
            <a:off x="3809880" y="350532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hits with noise and for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oll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ing a loud, deep sou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tra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l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udg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iving a small pu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bro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worrying or thinking h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Why should we take care of animals?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ght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u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as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across words you d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understand, there are strategies you can u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we can get the meaning from word parts.  We may understand the base word and suffix or the two shorter words in a compound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can look for context clues in the words and sentences around the unknown wo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 will learn more about using context clu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movie was a reeru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The movie was a rerun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she will unplug the Light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erdana"/>
              </a:rPr>
              <a:t>She will unplug the light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o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that take the place of a noun or nou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it     th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only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ronoun names more than 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only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nouns name more than 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hear about a doctor who helps anim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n animal you have helped or seen during a storm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320760"/>
            <a:ext cx="8637840" cy="14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ne Dark N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066680" y="2057400"/>
          <a:ext cx="7162920" cy="418788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nimal docto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y attend school for a long time. They study veterinary medicine. What would you like to stud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f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–ly, -ful, -er, -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nouns for One and More Than 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2-19T15:42:23Z</dcterms:modified>
  <cp:revision>32</cp:revision>
  <dc:subject/>
  <dc:title>Slide 1</dc:title>
</cp:coreProperties>
</file>